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12A1-6D94-4B75-A335-E5B0BB16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2BD-8F81-483A-91F1-0F3A36B7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CF6D-412E-4468-8586-01F4E8E3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6527-B003-4F44-B244-7CD4348B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00F2-4924-4D42-A9B8-E27086E5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9459-FC39-4A23-9F38-FA84A0E3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3331-F2A0-48D4-9668-F9D6081A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5402-0846-4B07-B0E8-7D9DA107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20C1-6961-440C-853A-6E2A0DF2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62B7-58D4-4068-904A-1AE792FC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8AD2-598A-4799-B5F3-56D8B239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07C-D3D5-438F-A116-E8C663C1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83D2-456D-44E7-AD2B-42584AA2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F4A1-16F6-4798-BA52-49D881C4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F2AC-7943-4064-8804-3470AAF9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F70D-156C-4258-8577-6BBA0FE9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686C-6DBD-4E4C-B39E-840ECA20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726-40D5-4CF3-8B20-01D850F8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310-410D-4125-B6C5-F3B56B2D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C73-5AFA-44E0-85F4-8E51EF0E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092-0F1C-4E52-B627-4164F476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5DB-5DF8-4AD3-BEDE-67CC4987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712-FA79-48C9-B475-9C867993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9D3-D4BC-4EEB-BC7A-D4BEE7AA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E6E5-65AA-45E9-BF61-EECE862FA674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C852-8511-435D-8C33-BF9C28758FFF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SAFETY UNI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NERAL SAFETY PROCEDUR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HPS Symbols</a:t>
            </a:r>
            <a:br>
              <a:rPr sz="44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zardous Household Product Symb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USEHOLD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vels of Severity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Danger, Warning and Caution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411280" y="3500280"/>
            <a:ext cx="379116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ire Safety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-A-S-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HHS extinguishers (AB C type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ss A –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mbustible materials that leave coals or ash such as paper, wood, cloth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ss B –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lammable liquids such as gas, oils or solvent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ss C –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ve electrical equipment as appliances, electrical lab equipment, photocopiers, computers, etc.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ecautions related to Dissections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n working with preserved specimens be in a well-ventilated are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re vinyl gloves at all tim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o reduce the irritating effects of chemical preservatives, rinse specimen under running water to eliminate excess and dilute what remai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view procedure for cuts and punctures from dissecting to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n cleaning dissecting instruments, hold sharp edges away from you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ways ask the teacher re: proper disposal of specimen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ENERAL SAFETY PROCEDUR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llow all instructions carefull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ver perform unauthorized experiments.  Do only those experiments assigned by the teach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ver work alone in the laboratory, and never work without the teacher’s supervisio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ver eat, drink, smoke, chew gum, or apply cosmetics in the laboratory.  Do not store food or beverages in the lab area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pproach laboratory work with maturity.  Never run, push, or engage in horseplay or practical jokes of any kind in the laboratory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144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eep your work area clean and uncluttered.  Store items such as books, purses, etc., in designated are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pose of used chemicals, matches, and living or preserved specimens only as directed by the teach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urn of all electrical equipment, water, and gas when it is not in use, especially at the of the lab perio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now the location and how to operate all safety equipment in the classroom, including fire extinguisher, fire blankets, sand, safety showers, eyewash fountains, and first-aid ki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 not use the sink to discard matches, filter paper, or other solid or slightly soluble materia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BORATORY APPAREL PRECAU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 not wear loose-fitting sleeves, bulky outerwear, or open-toe sho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ie back long hai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ar safety goggles when using chemicals, hot liquids, lab burners or hot plat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ar plastic gloves when working with preserved specimens or with poisonous, corrosive, or irritating chemica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CCIDENT PROCEDUR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port all accidents or injuries and all breakage or spills, no matter how minor, to the teach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f a chemical spills on your skin or clothing, wash it off immediately with plenty of cool water and notify the teach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f a chemical gets into your eyes or on your face, wash immediately at the eyewash fountain with plenty of water.  Wash for at least 15 minutes and notify the teach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ean up all spills immediatel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se a dustpan and a brush to pick up broken glas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MIS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orkplace Hazardous Materials Information System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The 3 components to the WHMIS system ar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SD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rker Educ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bels on all Produc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SD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ored in binders in lab area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l known chemica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8 sections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ame, ingredients, physical data, fire hazards, reactivity data, toxicological properties, preventive measures, first aid measure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MIS SYMBOL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371680" y="1862280"/>
            <a:ext cx="44006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MIS Label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mpressed Ga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x. Helium, propan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lammable/Combustible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x: methane gas, aceton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xidizing Material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x: Chromic Aci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isonous Infectious (Immediate &amp; Serious Toxic Effects)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x: cyanid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isonous Infectious (Other Toxic Effects)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x: mercury, lea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iohazardous Infectious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x: needle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rrosive Materials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x: degreaser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angerously Reactive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x: pure sodiu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3:43:37Z</dcterms:created>
  <dc:creator>Matt van Raalte</dc:creator>
  <dc:description/>
  <dc:language>en-US</dc:language>
  <cp:lastModifiedBy>nbdoe</cp:lastModifiedBy>
  <dcterms:modified xsi:type="dcterms:W3CDTF">2008-01-31T13:26:02Z</dcterms:modified>
  <cp:revision>10</cp:revision>
  <dc:subject/>
  <dc:title>SAFETY UNIT</dc:title>
</cp:coreProperties>
</file>